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wmf" ContentType="image/x-wmf"/>
  <Override PartName="/ppt/media/image19.jpeg" ContentType="image/jpe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wmf" ContentType="image/x-wmf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2F2C-0910-4BF3-AF7D-41393C0FC2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2494-75B5-47D9-85C4-0C783E7958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D2FD-81ED-4013-87BC-E2B8E35BC7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EF34-C45B-4FC6-B2DC-F9B54D699A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5F77-D7EC-43D8-9823-1D6C017064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92F4-7F40-42E4-8077-3ADBECAB6C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BA8F-7D4B-4D32-9013-41EF6C02E3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9ADB-D14C-4F84-A4FB-52C2C79280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F743-7D52-4142-95AC-8CE9C995F4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DDCF-32F4-471E-AB15-C9BA1650C9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0CE0-C470-4217-8D0B-98B65AF733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B20E-5448-45D2-9AB2-84BC133A48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F653-7B4D-44B3-890E-04F3A40DCE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0ADD-B3C3-4F00-ABA4-5AF9B6F6E2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3AC8-31CF-471A-82F3-F629246CF5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2721-DAB7-4B48-9B4F-C1D9915B87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DF95-5B07-45F6-8A0E-E64C25C332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4ED8-FFF2-442B-B852-C5A543FB36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2503-FBDE-4FBB-82C3-529039CAE4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DB3A-66B9-4AC2-8C39-85AB3067B6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1BAC-C68C-494C-BA18-A7F26E3005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9700-9687-47BA-BB65-4E20370FF3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1E08-3670-4B5B-A73F-F5ED77EA76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CE98-98D3-47E7-A3D3-0E3B9C4A6F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D951-651F-44C1-B7A8-62C3864D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DF8A-8C0E-4BBC-99DB-6AED633D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1302-B5DE-437A-84F5-AC42254A7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B12F-276D-41A0-B54F-D14551E08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01AD-F24C-4D35-BAE0-4D78AEC5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1259-70BC-4B9C-89B0-80CF0C3C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E992-ACBE-474F-8E83-0739BE5E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3FBB-5513-480A-A530-3D0DAC31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729E-EAD2-4328-B1C4-C3D0C471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9045-2C6E-4994-B380-D2A7FDEE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41B4-83DC-4812-BDA6-15EEA5EA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56ED-E120-430C-99F9-232D860A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0920-E92D-461D-AAEA-B1CF31E4F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wmf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Book Antiqua"/>
              </a:rPr>
              <a:t>Genetic Traits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pe02719_"/>
          <p:cNvPicPr/>
          <p:nvPr/>
        </p:nvPicPr>
        <p:blipFill>
          <a:blip r:embed="rId1"/>
          <a:stretch/>
        </p:blipFill>
        <p:spPr>
          <a:xfrm>
            <a:off x="457200" y="4724280"/>
            <a:ext cx="1738440" cy="168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bd20082_"/>
          <p:cNvPicPr/>
          <p:nvPr/>
        </p:nvPicPr>
        <p:blipFill>
          <a:blip r:embed="rId2"/>
          <a:stretch/>
        </p:blipFill>
        <p:spPr>
          <a:xfrm>
            <a:off x="7272360" y="4608360"/>
            <a:ext cx="1871640" cy="224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j0403720"/>
          <p:cNvPicPr/>
          <p:nvPr/>
        </p:nvPicPr>
        <p:blipFill>
          <a:blip r:embed="rId3"/>
          <a:stretch/>
        </p:blipFill>
        <p:spPr>
          <a:xfrm>
            <a:off x="7188120" y="0"/>
            <a:ext cx="1955880" cy="2446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j0396128"/>
          <p:cNvPicPr/>
          <p:nvPr/>
        </p:nvPicPr>
        <p:blipFill>
          <a:blip r:embed="rId4"/>
          <a:stretch/>
        </p:blipFill>
        <p:spPr>
          <a:xfrm>
            <a:off x="228600" y="228600"/>
            <a:ext cx="155412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676520" y="1981080"/>
            <a:ext cx="6019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Handednes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j0403720"/>
          <p:cNvPicPr/>
          <p:nvPr/>
        </p:nvPicPr>
        <p:blipFill>
          <a:blip r:embed="rId1"/>
          <a:stretch/>
        </p:blipFill>
        <p:spPr>
          <a:xfrm>
            <a:off x="6477120" y="228600"/>
            <a:ext cx="1434960" cy="1793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j0428643"/>
          <p:cNvPicPr/>
          <p:nvPr/>
        </p:nvPicPr>
        <p:blipFill>
          <a:blip r:embed="rId2"/>
          <a:stretch/>
        </p:blipFill>
        <p:spPr>
          <a:xfrm>
            <a:off x="5105520" y="3429000"/>
            <a:ext cx="3749400" cy="3046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j0411802"/>
          <p:cNvPicPr/>
          <p:nvPr/>
        </p:nvPicPr>
        <p:blipFill>
          <a:blip r:embed="rId3"/>
          <a:stretch/>
        </p:blipFill>
        <p:spPr>
          <a:xfrm>
            <a:off x="457200" y="3276720"/>
            <a:ext cx="28195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ome scientists have reported that handedness is due to a single gene with right handedness dominant and left handedness recessive.  However, other scientists have reported that the interaction of two genes is responsible for this tra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676520" y="198108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Freckl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j0411750"/>
          <p:cNvPicPr/>
          <p:nvPr/>
        </p:nvPicPr>
        <p:blipFill>
          <a:blip r:embed="rId1"/>
          <a:stretch/>
        </p:blipFill>
        <p:spPr>
          <a:xfrm>
            <a:off x="4572000" y="403848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j0402654"/>
          <p:cNvPicPr/>
          <p:nvPr/>
        </p:nvPicPr>
        <p:blipFill>
          <a:blip r:embed="rId2"/>
          <a:stretch/>
        </p:blipFill>
        <p:spPr>
          <a:xfrm>
            <a:off x="685800" y="533520"/>
            <a:ext cx="17287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is trait is reportedly due to a single gene’ the presence of freckles is dominant, the absence of freckles is reces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676520" y="198108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Hair cur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j0227518"/>
          <p:cNvPicPr/>
          <p:nvPr/>
        </p:nvPicPr>
        <p:blipFill>
          <a:blip r:embed="rId1"/>
          <a:stretch/>
        </p:blipFill>
        <p:spPr>
          <a:xfrm>
            <a:off x="0" y="0"/>
            <a:ext cx="3048120" cy="2043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j0411750"/>
          <p:cNvPicPr/>
          <p:nvPr/>
        </p:nvPicPr>
        <p:blipFill>
          <a:blip r:embed="rId2"/>
          <a:stretch/>
        </p:blipFill>
        <p:spPr>
          <a:xfrm>
            <a:off x="6095880" y="38098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arly geneticists reported that curly hair was dominant and strait hair was recessive.  More recent scientists believe that more than one gene may be involv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676520" y="198108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Allergi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" descr="j0422448"/>
          <p:cNvPicPr/>
          <p:nvPr/>
        </p:nvPicPr>
        <p:blipFill>
          <a:blip r:embed="rId1"/>
          <a:stretch/>
        </p:blipFill>
        <p:spPr>
          <a:xfrm>
            <a:off x="0" y="0"/>
            <a:ext cx="1773360" cy="2362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j0397871"/>
          <p:cNvPicPr/>
          <p:nvPr/>
        </p:nvPicPr>
        <p:blipFill>
          <a:blip r:embed="rId2"/>
          <a:stretch/>
        </p:blipFill>
        <p:spPr>
          <a:xfrm>
            <a:off x="4191120" y="4343400"/>
            <a:ext cx="898560" cy="930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j0400574"/>
          <p:cNvPicPr/>
          <p:nvPr/>
        </p:nvPicPr>
        <p:blipFill>
          <a:blip r:embed="rId3"/>
          <a:stretch/>
        </p:blipFill>
        <p:spPr>
          <a:xfrm>
            <a:off x="7391520" y="0"/>
            <a:ext cx="1434960" cy="1793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0341905"/>
          <p:cNvPicPr/>
          <p:nvPr/>
        </p:nvPicPr>
        <p:blipFill>
          <a:blip r:embed="rId4"/>
          <a:stretch/>
        </p:blipFill>
        <p:spPr>
          <a:xfrm>
            <a:off x="0" y="4419720"/>
            <a:ext cx="1739880" cy="2438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j0350669"/>
          <p:cNvPicPr/>
          <p:nvPr/>
        </p:nvPicPr>
        <p:blipFill>
          <a:blip r:embed="rId5"/>
          <a:stretch/>
        </p:blipFill>
        <p:spPr>
          <a:xfrm>
            <a:off x="3352680" y="609480"/>
            <a:ext cx="1816200" cy="1094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j0411667"/>
          <p:cNvPicPr/>
          <p:nvPr/>
        </p:nvPicPr>
        <p:blipFill>
          <a:blip r:embed="rId6"/>
          <a:stretch/>
        </p:blipFill>
        <p:spPr>
          <a:xfrm>
            <a:off x="6553080" y="4572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Book Antiqua"/>
              </a:rPr>
              <a:t>While allergic reactions are induced by things a person comes in contact with, such as dust, particular foods, and pollen, the tendency to have allergies is inherited.  If a parent has allergies, there is a one in four (25%) chance that their child will also have allergy problems.  The risk increases if both parents have allergies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676520" y="1981080"/>
            <a:ext cx="6019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Hand Claspi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j0428643"/>
          <p:cNvPicPr/>
          <p:nvPr/>
        </p:nvPicPr>
        <p:blipFill>
          <a:blip r:embed="rId1"/>
          <a:stretch/>
        </p:blipFill>
        <p:spPr>
          <a:xfrm>
            <a:off x="152280" y="228600"/>
            <a:ext cx="306396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ome scientists report that there may be a genetic component to this trait while others have found no evidence to support thi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676520" y="1981080"/>
            <a:ext cx="563868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Earlob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Attachmen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j0409149"/>
          <p:cNvPicPr/>
          <p:nvPr/>
        </p:nvPicPr>
        <p:blipFill>
          <a:blip r:embed="rId1"/>
          <a:stretch/>
        </p:blipFill>
        <p:spPr>
          <a:xfrm>
            <a:off x="380880" y="609480"/>
            <a:ext cx="20574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066680" y="19810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Colorblindnes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j0396128"/>
          <p:cNvPicPr/>
          <p:nvPr/>
        </p:nvPicPr>
        <p:blipFill>
          <a:blip r:embed="rId1"/>
          <a:stretch/>
        </p:blipFill>
        <p:spPr>
          <a:xfrm>
            <a:off x="3733920" y="3124080"/>
            <a:ext cx="1554120" cy="2341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j0406700"/>
          <p:cNvPicPr/>
          <p:nvPr/>
        </p:nvPicPr>
        <p:blipFill>
          <a:blip r:embed="rId2"/>
          <a:stretch/>
        </p:blipFill>
        <p:spPr>
          <a:xfrm>
            <a:off x="6095880" y="4827600"/>
            <a:ext cx="3048120" cy="2030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j0428588"/>
          <p:cNvPicPr/>
          <p:nvPr/>
        </p:nvPicPr>
        <p:blipFill>
          <a:blip r:embed="rId3"/>
          <a:stretch/>
        </p:blipFill>
        <p:spPr>
          <a:xfrm>
            <a:off x="0" y="4967280"/>
            <a:ext cx="2835360" cy="1890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j0409311"/>
          <p:cNvPicPr/>
          <p:nvPr/>
        </p:nvPicPr>
        <p:blipFill>
          <a:blip r:embed="rId4"/>
          <a:stretch/>
        </p:blipFill>
        <p:spPr>
          <a:xfrm>
            <a:off x="7086600" y="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j0409654"/>
          <p:cNvPicPr/>
          <p:nvPr/>
        </p:nvPicPr>
        <p:blipFill>
          <a:blip r:embed="rId5"/>
          <a:stretch/>
        </p:blipFill>
        <p:spPr>
          <a:xfrm>
            <a:off x="0" y="0"/>
            <a:ext cx="320040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Colorblindness is due to a recessive allele located on the X chromosome.  Women have two X chromosomes, one of which usually carries the allele for normal color vision.  Therefore, few women are colorblind.  Men only have one X chromosome, so if they carry the allele for colorblindness, they will exhibit this trait.  Thus, colorblindness is seen more frequently in men than in wom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066680" y="19810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End of show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ome scientists have reported that this trait is due to a single gene for which unattached earlobes is dominant and an attached earlobe is recessive. Other scientists have reported that this trait is probably due to several gen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676520" y="1981080"/>
            <a:ext cx="5638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Thumb Extensio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j0402542"/>
          <p:cNvPicPr/>
          <p:nvPr/>
        </p:nvPicPr>
        <p:blipFill>
          <a:blip r:embed="rId1"/>
          <a:stretch/>
        </p:blipFill>
        <p:spPr>
          <a:xfrm>
            <a:off x="0" y="0"/>
            <a:ext cx="2394000" cy="3352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j0402585"/>
          <p:cNvPicPr/>
          <p:nvPr/>
        </p:nvPicPr>
        <p:blipFill>
          <a:blip r:embed="rId2"/>
          <a:stretch/>
        </p:blipFill>
        <p:spPr>
          <a:xfrm>
            <a:off x="6858000" y="44956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is trait is reportedly due to a single gene; strait thumb is dominant and hitchhiker's thumb is reces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676520" y="1981080"/>
            <a:ext cx="5638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Tongue Rolli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j0262237"/>
          <p:cNvPicPr/>
          <p:nvPr/>
        </p:nvPicPr>
        <p:blipFill>
          <a:blip r:embed="rId1"/>
          <a:stretch/>
        </p:blipFill>
        <p:spPr>
          <a:xfrm>
            <a:off x="0" y="0"/>
            <a:ext cx="2378160" cy="365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j0409525"/>
          <p:cNvPicPr/>
          <p:nvPr/>
        </p:nvPicPr>
        <p:blipFill>
          <a:blip r:embed="rId2"/>
          <a:stretch/>
        </p:blipFill>
        <p:spPr>
          <a:xfrm>
            <a:off x="5715000" y="457200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ongue rolling ability may be due to a single gene with the ability to roll the tongue a dominant trait and the lack of tongue rolling ability a recessive trait.However, many twins do not share the trait, so it may not be inherit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676520" y="1981080"/>
            <a:ext cx="563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Dimpl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j0411750"/>
          <p:cNvPicPr/>
          <p:nvPr/>
        </p:nvPicPr>
        <p:blipFill>
          <a:blip r:embed="rId1"/>
          <a:stretch/>
        </p:blipFill>
        <p:spPr>
          <a:xfrm>
            <a:off x="533520" y="320040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Dimples are reportedly due to a single gene with dimples dominant (people may exibit a dimple on only one side of the face) and a lack of dimples is reces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21:18:45Z</dcterms:created>
  <dc:creator>Pam Tucker</dc:creator>
  <dc:description/>
  <dc:language>en-US</dc:language>
  <cp:lastModifiedBy>Preferred Customer</cp:lastModifiedBy>
  <dcterms:modified xsi:type="dcterms:W3CDTF">2010-02-01T13:30:30Z</dcterms:modified>
  <cp:revision>4</cp:revision>
  <dc:subject/>
  <dc:title>Genetic Traits</dc:title>
</cp:coreProperties>
</file>